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6D7B-B800-4C0F-9345-21549301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C40E-6C61-4ADE-B774-D0913F19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3626-7C04-4BD4-9C03-D65CA88A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4CF9-EF2E-4926-9132-5634797E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7A2B-35C9-4287-9BB9-08BE3495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3E9C-71DA-476E-A88A-52BD3FF0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DFEF-4B0E-43AA-9D97-EA31CDC7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6E29-223A-4E89-8112-E65C763B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754D-211D-4853-9614-96F2DBDD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9DC5-5F4F-4B2E-B976-E49F20FB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E702-C182-4D07-A646-62A80144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0DFC-CBAC-4A7A-A9F8-6682828F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250C-4699-423E-BEB2-A4810B69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6757-D951-4798-AB55-225D9507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E78F-914D-4F0F-AB5C-24CF8F4F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D64F-7B25-41F5-A551-ACB284A6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80DC-8BE5-4231-9A96-1781E26A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46AB-59B4-433A-8F67-132B45BF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35E-96E9-4F9D-A79D-7CF31EDF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A452-8509-4BE8-88E6-476A004F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4C07-7587-49D0-98C5-C264B45E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08C6-69A9-472A-B4A9-CD2ED9B7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C1FA-0440-414F-A451-CFF4C0A5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09C0-AD85-4C32-B879-41977228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826D-CF1C-441E-91D1-5C5D39699CE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0090-0CA6-4747-AA53-95BE6BDB8F8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153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ff66"/>
                </a:solidFill>
                <a:uFillTx/>
                <a:latin typeface="Ravie"/>
              </a:rPr>
              <a:t>Adjectives about Lebron Ja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: Dawson, Jacob, Alexius, and Lil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Bauhaus 93"/>
              </a:rPr>
              <a:t>Athletic: because he plays basketball so well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oper Black"/>
              </a:rPr>
              <a:t>Energetic: because he plays a sport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Chiller"/>
              </a:rPr>
              <a:t>Nice: because he has great sportsmanship</a:t>
            </a:r>
            <a:r>
              <a:rPr b="0" lang="en-US" sz="40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ring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7:15:59Z</dcterms:created>
  <dc:creator>mves-student</dc:creator>
  <dc:description/>
  <dc:language>en-US</dc:language>
  <cp:lastModifiedBy>technician</cp:lastModifiedBy>
  <dcterms:modified xsi:type="dcterms:W3CDTF">2010-09-02T17:14:32Z</dcterms:modified>
  <cp:revision>3</cp:revision>
  <dc:subject/>
  <dc:title>Adjectives about Lebron James</dc:title>
</cp:coreProperties>
</file>